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6AB9-4D9B-440B-A848-A7CDA123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6932-C098-4D72-A417-C5A41F76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A167-E79B-414A-A1F6-19AC7D431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CB04-81A5-468E-AEBA-1A971074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2F2-DA6F-4280-8D99-C89DF7F2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036-BE40-4425-8F47-3F03F046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9759-72DE-49FF-8C5F-3B1121BD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3C18-09E4-4E23-AB75-60DC6975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AA0B-52A5-4CE1-8A92-49FFEAC4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9370-53E2-4223-B89E-E21EB322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05D-A5A8-40BF-BC59-D0E9809A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C024-EADD-4D32-AC46-EB5D1DEE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4A3A-8010-422D-8DF7-85C2B7F51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ometheanplanet.com/server.php?show=ConResource.20000" TargetMode="External"/><Relationship Id="rId2" Type="http://schemas.openxmlformats.org/officeDocument/2006/relationships/hyperlink" Target="http://www.teachertube.com/" TargetMode="External"/><Relationship Id="rId3" Type="http://schemas.openxmlformats.org/officeDocument/2006/relationships/hyperlink" Target="http://earth.google.com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Essential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Is the force with yo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How have landforms changed throughout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The role of humans on earth: good or b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914400"/>
            <a:ext cx="693432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Gill Sans Ultra Bold Condensed"/>
              </a:rPr>
              <a:t>Landform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Gill Sans Ultra Bold Condensed"/>
              <a:ea typeface="Gill Sans Ultra Bold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Garamond"/>
              </a:rPr>
              <a:t>In this unit students will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Garamond"/>
              </a:rPr>
              <a:t>Learn the different types of land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Garamond"/>
              </a:rPr>
              <a:t>Create a representation of a land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Garamond"/>
              </a:rPr>
              <a:t>Analyze the processes that caused landforms to change or to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Garamond"/>
              </a:rPr>
              <a:t>Describe the outcome of those changes and 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Garamond"/>
              </a:rPr>
              <a:t>Analyze the human impact on the 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00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Garamond"/>
              </a:rPr>
              <a:t>Create a commercial that would persuade others to take better care of our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Garamond"/>
              </a:rPr>
              <a:t>Pre-Assessment for Land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 small group, brainstorm as many landforms as you c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3 from the list and explain how they were formed and how they are changed throughout time. Draw a picture to help your explanation if necess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78487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3352680"/>
            <a:ext cx="7848720" cy="22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33526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3352680"/>
            <a:ext cx="0" cy="221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7913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e-assessment will determine which processes that change landforms we will cover more extensivel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line Links to Land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rometheanplanet.com/server.php?show=ConResource.118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rometheanplanet.com/server.php?show=ConResource.2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rometheanplanet.com/server.php?show=ConResource.938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eachertube.c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videos on landforms, ero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earth.google.com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kidsgeo.com/geology-for-kids/0032-understanding-landforms.ph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8T13:16:11Z</dcterms:created>
  <dc:creator>tech</dc:creator>
  <dc:description/>
  <dc:language>en-US</dc:language>
  <cp:lastModifiedBy>tech</cp:lastModifiedBy>
  <dcterms:modified xsi:type="dcterms:W3CDTF">2009-10-30T17:17:29Z</dcterms:modified>
  <cp:revision>5</cp:revision>
  <dc:subject/>
  <dc:title>Slide 1</dc:title>
</cp:coreProperties>
</file>